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4DF4-52C2-487B-9118-F08E7997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0157-8A59-40AB-94C1-89556206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D914-B7F5-4723-981C-5AD586D4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2E50-F74D-4557-9D1E-BEF91793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40F-112A-4A7B-8CB5-637CCA1D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263D-D0AE-4BA0-A560-3124E4D6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028B-E519-43E1-91BE-47DD2280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7794-C110-4876-AD15-7253F852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1A61-54D9-4297-9A8E-FF69FF75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486E-7CB3-455C-A8E3-D2D28A82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AA2B-82FB-43AF-8998-6A938223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0B98-BB6B-47B1-8505-B014F446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B499-C836-4CD6-B88D-EF0054820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a European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ituații stati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1628640"/>
          <a:ext cx="8229600" cy="3703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Ța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nderea în economia european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ț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Comer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8360" y="1628640"/>
          <a:ext cx="8229600" cy="3703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Ța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nderea în economia european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ț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8360" y="1628640"/>
          <a:ext cx="8229600" cy="3703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Ța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nderea în economia european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ț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20:03:49Z</dcterms:created>
  <dc:creator>AS</dc:creator>
  <dc:description/>
  <dc:language>en-US</dc:language>
  <cp:lastModifiedBy>AS</cp:lastModifiedBy>
  <dcterms:modified xsi:type="dcterms:W3CDTF">2010-01-07T10:54:06Z</dcterms:modified>
  <cp:revision>8</cp:revision>
  <dc:subject/>
  <dc:title>Curs valutar</dc:title>
</cp:coreProperties>
</file>